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55F5-F775-4E7D-97ED-598029FA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6C9D-C042-4251-BEAA-A00BECA6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759-0257-4617-8107-51B23B84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8B3-F856-4AE3-A147-4C19A56A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CAF5-6F11-441A-B562-6C46046C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7EBD-9651-4140-8D31-29C8EA17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F8AA-9F13-4410-8A56-F74474C8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FEFA-1FBC-4CE9-A79B-9093A2D1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803F-4097-4C10-BAC8-B2F074FC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FFE8-680E-4F34-8860-2CA6248F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57DF-F9C5-4A34-89B2-04B2F0F3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92C-3120-45AC-A797-FB09FF27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F986-B2FD-4B12-8E12-09FFA1D2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5148-B19D-42D0-A12F-0960576C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622A-2C14-47D9-BEFF-C831AC54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0077-7CEB-43B5-A34D-6B93AEDC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A93E-7F4C-462E-82FD-1FDCC805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0E4-C40F-49BB-B4BE-8208275E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9ECA-5330-4A83-A7A4-BFBC1B9B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C96B-E8D1-4233-800A-E17CE7BC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1B2B-830F-4BA6-B462-CB3C14C7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E450-E6E7-4252-8C75-DF1D2EE5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B0D5-369D-4B4D-AF75-8F36C1A2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CF4C-01E3-4110-A7E1-F3DC7248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F597-2EE2-4D63-B3D0-C77AD57C9B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4612-636D-4F14-BF12-B297F635D4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Sound Waves and Pressure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Investigation 3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66680" y="1981080"/>
            <a:ext cx="78487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fferent types of matter possess different proper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can affect how they interact with sound w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property that differs = how atoms/molecules of matter are attracted toward each 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90720" y="2057400"/>
            <a:ext cx="815328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raction between metal = typically greater than attraction between gasses or liqui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ed of sound is different depending on how particles of matter intera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ater attraction = greater speed of sound in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2057400"/>
            <a:ext cx="8001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ttle attraction = lower speed of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ed of sound is greater in solids than in liquids and greater in liquids than g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nding waves = cause vibrations which result in pressure waves that travel within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3:06:44Z</dcterms:created>
  <dc:creator>jpycz</dc:creator>
  <dc:description/>
  <dc:language>en-US</dc:language>
  <cp:lastModifiedBy>jpycz</cp:lastModifiedBy>
  <dcterms:modified xsi:type="dcterms:W3CDTF">2012-01-30T18:12:33Z</dcterms:modified>
  <cp:revision>2</cp:revision>
  <dc:subject/>
  <dc:title>Sound Waves and Pressure Investigation 3</dc:title>
</cp:coreProperties>
</file>